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E8AE-808E-42C4-8940-6F4073E71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8C5E-DC33-443F-9EB1-98F3564A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752843-A4A4-44B2-BD5F-4BD482BD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FEC460-3200-4319-A858-A7402E8D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74B65-DC7A-4C19-AC38-AB5E062C6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610A8F-C018-496D-AD90-A7D80E6D7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F6BDC-B3AE-4DF2-80C0-5FA0C641C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4A1E8-B988-4139-A8D1-82E4A75A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DDF927-16E9-4DFE-B0B0-0C3768F8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FB1CB3-F80E-4988-81A3-BF3DE9858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47D18-09B9-401E-8311-528F9F7A1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E8B8-7E58-47CE-B92D-3C4C54315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CB16-6FA3-4A15-BD00-33180D48F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9334-152E-485F-A62D-A6657F58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6A16C-06F2-49A6-A83C-61575C97A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D894D-C54D-4FD4-8464-50D59CB5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D826C-FE10-4819-A595-29CC06801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D4AA3-CAE8-499A-B5A1-E4CD930F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EECC-07C1-47CC-8675-BA37E4C9B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051E7-9417-425C-A6D1-6BDD0D756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806F-9338-457E-881B-9AE56B1D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CB4F3-600C-416D-BB3C-E4452C570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C6CB-AFDA-4445-B4BF-D81D0AF54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A8C9-65EF-479A-9536-87534FD99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AE2B-412A-44C5-9923-B945CBB17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22E5E-3CCF-49DC-B536-6E37A31BA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4FCED-2A3A-4688-98CD-E3AEC0203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8BA44-8653-4DC4-AD23-95B9DF08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F627A-A4DC-4027-A64E-60EAB7E1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82042-27BD-405D-9D89-3D3484DA1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82F39-4645-400F-9BDF-492821EB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2D17-B86D-48F2-8A0F-B20B3AF1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78D88-A416-400E-BD4E-E670E52E4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4CA36-6E87-4232-A516-4D6A87E7F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BB437-A291-4689-A9C3-63E1B49F2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23F78-B40B-40FC-B6A6-7A87B91E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742A9-71DE-4B99-A096-1FBEB1800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1889E2-3A65-4623-BB10-97927E2C2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D450C-4BD8-4FE9-90F6-278F8BC3C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646857-366D-4D73-BBF2-7C202903D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98367-31DC-4F69-940E-5F606926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9DA1CA-8BFE-4EE8-BF65-02159F51D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E86F8-5226-4A3D-9F6D-1839F247C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A2EAD-A428-440A-897C-40455629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DE290-4F4D-400E-900A-EFCDCBD2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5400B-4000-4674-8B9F-316D56D3A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DE24E-0D6F-4E9C-9213-C1B085BD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DDA14-C17D-4C50-81C7-B1D5DBF3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43A6E8-D3FF-46A1-A408-CAADAA91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79673-F6B5-4440-A464-6C478C03A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4EE91-BDBE-41B3-BFB2-8B1A749FD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C653F-A137-4FC7-AB08-880C8739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E39D72-A567-44FF-84E8-013D327AF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46B9-E5D5-4A01-B985-6411D136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F8DF0-5594-4BCD-A8B3-F4DD0F3D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51692-186D-4809-B42C-DF2A370E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A9E62-2F11-4C4F-92FD-26DD47139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63487-49D1-49C3-A16F-F8E031098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EE1329-4277-4000-A832-C17693725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6C46B-F52E-4685-AF33-16FA9FB3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D2404-876D-418E-ADC6-230BC643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7ECE1-1D78-40F5-B923-74389DF7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5E19E-20F1-48D5-991D-F0664CE0E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649E39-B8C1-492E-98B4-9DF590A8D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D572-C1A7-4155-8FC5-B92895E4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42B74-8E76-4FB6-8937-186D55AC2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8E592-01A1-4A43-BE48-D1664AF6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6CF8B-12CE-47D8-BEDF-08E45257E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22A840-6819-48E2-8C50-1C88322EF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ABF5EE-C984-45E0-B62A-303CC75B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E5798-5F7A-40E6-A36C-2C28299FE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0C9EAD-536E-4125-88F2-E9607D40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25D80-CCA3-4A30-89FD-954642BA9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F912C1-FADE-4D2B-8273-9799C367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46527-5AE4-4A01-B5FD-60F7ED18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4C94-448B-4C2C-B66E-9C574A83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DFF9B3-49C0-4799-80CA-54B8BDC7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2BB93-26D1-40E8-84DA-1EFD20AD2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398689-F7D7-4788-8522-939EBD293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79C5CF-63E8-45FB-AD73-BDC1CA4E1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FD42EC-3210-4689-80A4-E80DD511B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2EC81-EC46-4882-879F-61B46524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56BAF-83D7-46FA-9FD8-A3294FA0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B3D62-096F-4011-9149-CC154DFD2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79BFB-D778-4B94-82F2-9D791673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C6689C-E9F8-4D99-A69D-2A581BEA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0911-F534-4E48-A936-46434661C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B63795-0FED-47C6-9F79-9792D53D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E6DFE-5663-430B-89F5-C6DD9F29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D9BE4-98BA-4E3E-90FA-983986521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D92BD-E360-42F3-8F1F-469E50437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C5423F-FB0C-4083-B438-8788F8F32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FBE48B-A50C-4269-B758-F27CE5AD0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BE8E5B-F02B-4625-8EB2-78A5F7411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48F82-012C-453C-B92D-D1789E1C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169374-4046-4846-9A1C-0A5E8B118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FD546-A983-40A9-8A7C-288179E8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6839-C57A-4D15-BD28-2636183A8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923A5F-28D3-4996-8A0C-AFC42F7F1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F5EF84-BFA4-41F0-B03B-DC262062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9FBAB8-11AD-46FE-A869-0850444E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B3C417-EDDA-454C-940C-DF3C723DD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079A0A-978F-4FFD-BAD2-06720EF1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64BEF-511E-4021-8B6E-58E6FCC33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EF7ECA-FF5E-4ADF-8741-017796A0E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13EBC9-ED7D-4255-AD34-EB7EADD82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C330EA-A05A-4583-ADE1-A3212E55F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F56E09-E923-47A8-A2BD-B726ECE2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ADE78-2201-4496-AB7D-CEC9404D092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F123F-22AC-464D-8815-604904A66BE0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A74EA-F7B6-496D-B6CC-0C3EF1C2E60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0A933-39AB-46D8-89AC-E4445C8B19D3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F6F78-6741-4579-BFBD-C3AB84892B89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6697-B612-46B5-A300-98B8ACA8FAF7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A293-7662-4BFC-8CA9-8E14603BAA7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FC92-38F2-455C-994C-366A1EF4CA6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12A3E-4CEB-4944-A5B2-8574FE02D8F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1"/>
          <p:cNvSpPr/>
          <p:nvPr/>
        </p:nvSpPr>
        <p:spPr>
          <a:xfrm>
            <a:off x="1979640" y="2276640"/>
            <a:ext cx="514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бразцы для провер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Рисунок 1" descr="IMG_NEW.jpg"/>
          <p:cNvPicPr/>
          <p:nvPr/>
        </p:nvPicPr>
        <p:blipFill>
          <a:blip r:embed="rId1"/>
          <a:stretch/>
        </p:blipFill>
        <p:spPr>
          <a:xfrm>
            <a:off x="324000" y="333360"/>
            <a:ext cx="8351640" cy="6191280"/>
          </a:xfrm>
          <a:prstGeom prst="rect">
            <a:avLst/>
          </a:prstGeom>
          <a:ln w="0">
            <a:noFill/>
          </a:ln>
        </p:spPr>
      </p:pic>
      <p:sp>
        <p:nvSpPr>
          <p:cNvPr id="401" name="Прямая соединительная линия 5"/>
          <p:cNvSpPr/>
          <p:nvPr/>
        </p:nvSpPr>
        <p:spPr>
          <a:xfrm flipH="1">
            <a:off x="5003280" y="1700280"/>
            <a:ext cx="1800360" cy="1441440"/>
          </a:xfrm>
          <a:prstGeom prst="line">
            <a:avLst/>
          </a:prstGeom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ая соединительная линия 7"/>
          <p:cNvSpPr/>
          <p:nvPr/>
        </p:nvSpPr>
        <p:spPr>
          <a:xfrm flipH="1" flipV="1">
            <a:off x="5076720" y="1699920"/>
            <a:ext cx="1727280" cy="3529080"/>
          </a:xfrm>
          <a:prstGeom prst="line">
            <a:avLst/>
          </a:prstGeom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ая соединительная линия 9"/>
          <p:cNvSpPr/>
          <p:nvPr/>
        </p:nvSpPr>
        <p:spPr>
          <a:xfrm flipH="1">
            <a:off x="5003280" y="3716280"/>
            <a:ext cx="1800360" cy="1441440"/>
          </a:xfrm>
          <a:prstGeom prst="line">
            <a:avLst/>
          </a:prstGeom>
          <a:ln w="10080">
            <a:solidFill>
              <a:srgbClr val="f0a2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Object 1"/>
          <p:cNvGraphicFramePr/>
          <p:nvPr/>
        </p:nvGraphicFramePr>
        <p:xfrm>
          <a:off x="0" y="-28440"/>
          <a:ext cx="9144000" cy="688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8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28440"/>
                    <a:ext cx="9144000" cy="688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Box 1"/>
          <p:cNvSpPr/>
          <p:nvPr/>
        </p:nvSpPr>
        <p:spPr>
          <a:xfrm>
            <a:off x="826920" y="1052640"/>
            <a:ext cx="75614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0+1=1     3+1=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1+1=2     4+1=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2+1=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0T06:38:02Z</dcterms:created>
  <dc:creator>Танка</dc:creator>
  <dc:description/>
  <dc:language>en-US</dc:language>
  <cp:lastModifiedBy>Наташа</cp:lastModifiedBy>
  <dcterms:modified xsi:type="dcterms:W3CDTF">2015-11-18T17:21:18Z</dcterms:modified>
  <cp:revision>148</cp:revision>
  <dc:subject/>
  <dc:title>путешествие по морю знаний</dc:title>
</cp:coreProperties>
</file>